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5ED-EB2F-4292-80F9-F0E4A4E1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AC6-B094-4820-A14C-CB24B14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D11-18CE-4DDA-8AD9-F4E46187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8C6-119B-4431-BF24-5AA9AFD5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E01-F3C0-434C-AE2C-DABC9DAD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2AC-71BA-4175-91F9-543B83B5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036-95F5-4B45-8C02-6F7DF30E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C58-2A87-4009-AA0E-E927A440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F92-0B7B-4C1F-9B43-77536C22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D75-E4A2-4395-8B6E-F5D00CF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F69-7B41-47AE-B8B9-0E987857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B85-89A7-4E21-89F5-9B8307EC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150-DA62-4D54-BC0A-235111E03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495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ric Conversions Ladder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j00788050000[1]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54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58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dder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62" name="Freeform 67"/>
            <p:cNvSpPr/>
            <p:nvPr/>
          </p:nvSpPr>
          <p:spPr>
            <a:xfrm>
              <a:off x="1308240" y="558720"/>
              <a:ext cx="1092240" cy="66060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65" name="Freeform 68"/>
            <p:cNvSpPr/>
            <p:nvPr/>
          </p:nvSpPr>
          <p:spPr>
            <a:xfrm>
              <a:off x="2374920" y="838080"/>
              <a:ext cx="1092240" cy="66060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68" name="Freeform 69"/>
            <p:cNvSpPr/>
            <p:nvPr/>
          </p:nvSpPr>
          <p:spPr>
            <a:xfrm>
              <a:off x="3441600" y="1117440"/>
              <a:ext cx="1092240" cy="66060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72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75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79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80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84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85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89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90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_ 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 cm = _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98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99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_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_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4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19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0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5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6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_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_5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111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"/>
            <p:cNvSpPr/>
            <p:nvPr/>
          </p:nvSpPr>
          <p:spPr>
            <a:xfrm>
              <a:off x="70484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380880"/>
            <a:ext cx="8305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re using &lt;, &gt;, or =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) 63 cm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) 5 g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8 m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) 1,500 mL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1.5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) 536 cm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53.6 d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) 43 mg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5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) 3.6 m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&gt;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Denice Fogel User</cp:lastModifiedBy>
  <dcterms:modified xsi:type="dcterms:W3CDTF">2013-01-16T01:49:01Z</dcterms:modified>
  <cp:revision>31</cp:revision>
  <dc:subject/>
  <dc:title>Slide 1</dc:title>
</cp:coreProperties>
</file>